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CFED-BE90-4A3A-AFA0-DC67B4EB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871-28CA-4273-8375-E0CECE58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973-A16B-4059-80FF-B0F96BD5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7DE-D7DB-4013-86C6-11B04EAE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F581-B293-4B3F-A7F3-FF16CEF8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8EC7-F799-423A-B6A8-303CA9EA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0E82-D970-4ACC-8CE0-7953B93A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7CB9-0CB8-4F30-A163-C40F9CAB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F8E4-4BC9-4B01-BBB6-9F1E85FB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9F8B-BCDE-44AA-879A-BAD05373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E98C-5C49-4587-92A1-3D43C67F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C86-5C42-4653-A304-943117FA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1851-997A-4FEE-ADA8-BCB575A7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BB47-BD0E-4646-9058-D44784DC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5674-BFE7-4608-A448-119E8148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F4A6-C9F5-4A09-A60B-AD9535B4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F59B-C873-4130-942B-7349D958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348-D98C-4EB7-84BC-92E60777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956-582F-4782-B28A-1409BDCC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2C4-6251-40D9-A845-F2BB76F2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A04-EE62-4892-A841-26262EC2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630-A8BA-4D10-9C5B-AC5AE253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67B-15FC-4CF5-98FF-B468A522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311-7C42-4E53-8EE9-29793DBB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E05F-6E8D-4623-82C6-F96EAED99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ECB4-ED8A-4445-A43D-403057BE0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itch-Then-Plan Video Planning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This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se this template, read then delete all of the slides that have a black background.  Complete the slides that have a blue backg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Entrepreneurshi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ot learning to do, is the essence of entrepreneur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no one ever achieved success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go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rdest thing about getting started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et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r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n (emerging) entrepreneur, you should always be selling—not strategizing about s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per Pro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row together a pitch that contains the slides presented in this templat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y it out on some mentors, friends, and relatives.  Do this about ten tim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 the team together in a room and discuss what you have learn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x the pitc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rt writing the scrip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 Your Movie in The First Minu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has a presentation been given where the audience has said to itself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 wish the speaker had spent the first fifteen minutes explaining his life sto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you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 busy warming up, your listeners are inevitably wonderin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 your movie ab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everyone a favor:  Answer that question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rst minu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Once the audience has learned what you do, they can listen to everything else with a more focused perspec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dorable Red Pan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i Yamamo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E674-9626-4644-8C7A-B79C999D68EC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want my audience to know the beautiful characteristics of the red panda and where it lives, what it eats, and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rst, I would introduce my ani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, I would tell about the habit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, I would tell about what it e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t, I would tell about the predat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will make money by making it very interesting and informatio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will make this movie special by using good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9:07:41Z</dcterms:created>
  <dc:creator/>
  <dc:description/>
  <dc:language>en-US</dc:language>
  <cp:lastModifiedBy>City School</cp:lastModifiedBy>
  <dcterms:modified xsi:type="dcterms:W3CDTF">2013-02-20T19:22:43Z</dcterms:modified>
  <cp:revision>39</cp:revision>
  <dc:subject/>
  <dc:title>The Pitch-Then-Plan Business Planning Template</dc:title>
</cp:coreProperties>
</file>